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672-774C-4078-AAAF-3E7F2852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851-2DA4-4A8F-AE8B-4360353B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3A948-FD0D-4D37-8320-D59DBFF3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E5DF7-69AA-489C-9BB0-7E165C62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C232D-2D6B-4C48-8F84-CEF3D645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F7B6D-5F43-463A-A567-18D63D71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46B2B-CA0A-486E-8830-C64D509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ECD74-0FC9-4C13-859C-F788A8A3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45D9D-594F-4D61-8FDA-96FAACA5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5ACB8-5497-4DE8-A931-05255A42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CFF6A-C1E8-400A-B556-4362BCAA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80093-2D60-457E-92C5-235152BE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C30-BABD-45B5-B854-4EA0F909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F62AF-AB16-403A-B8F6-D09FA3BA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A8CA1-A75C-4B60-8B87-A5F4FE90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FC99C-9E8A-4576-B0BA-6A665ED2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52202-0971-4CB1-81AA-5515A2C6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C8661-F8C0-42FD-8E04-030491E3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22C4D-E008-47DB-8B96-2CD1A2AE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341F0-FAB2-4635-91AB-5273762E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6013A-5173-4C78-9DC4-D805A5A8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54997-3D18-4A2D-AFAB-7EA00DBA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45F02-AA5E-4760-89E1-12319EB5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DCB-3E92-47BC-A72F-7A6CA22A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CA6B7-3D52-46E3-B89F-1A68AB58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43978-1285-4DDE-9004-1FB0B8D5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2796A-A118-4298-89FB-A80B4D55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7B07D-7521-4B15-83A3-7E03E57F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1B6DC-8BC3-418D-9A0D-E1AFDB55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8DE4A-9844-4441-82BE-6235144D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95438-8EB5-4EAC-8909-3E639D66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31A71-7F72-4C0F-BD08-91988A89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B86DA-EDE2-4ECA-9ACD-E201EC9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BBE47-7647-412D-A472-AAF92C3E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BB77-8F53-4F72-AA2A-A8AE4F6F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724A8-DABA-43A8-B7E5-BB872228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0D6D7-8422-476E-B6E0-DE9A8FF1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BBD22-E704-4165-AF28-FC980B81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CA1CE-3141-4926-9E2A-8A0EAA35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E98D8-BC9D-41E1-ADE7-13714514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8868D-A55D-41A1-A92A-74F37E50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A7D33-EF44-4294-A0B5-AD3482DE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80A3C-ACFE-4B1E-B605-00AAE6FE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21429-0D55-4AA0-B435-1B033FC4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1DBFC-6D42-4602-B258-EAC32A9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4ABF-A479-4A14-90EB-03DD5CC9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3EA82-6EAF-492A-B07B-DB0D5B7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498FF-07BA-4B3E-8829-7A5E4A8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B764A-DA55-4325-94F3-E4471171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0A924-40D0-4EC7-978E-079789D7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0F582-309B-459B-921B-589CC1A7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77AAA-7E2D-443E-9ABA-2BFCF092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7D5C6-9673-4CD8-A564-9330FED2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A9314-857D-42CF-AB18-71C58BE0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F8173-5CA3-465F-B88F-17F686B5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10B0D-434C-4440-94FC-AD34FF5E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7C86-84DA-494D-9F28-7F3494E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7E1C7-8FF0-49EF-BEB9-B8E4023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334DC-B569-450B-A53D-3552E069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9E82E-236E-4689-81C3-D9360819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E6C2B-731E-432C-88F5-80A8A4F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2F10E-1258-4217-9531-E3B669C3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7724E-35BE-4278-A5F5-94E4FC07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27908-15D9-45A2-A0BF-79EF28C9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62EBA-E3FD-4E70-8950-CBD9ABF3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FEF32-BFA5-413F-85F0-895E2155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FD974-BE04-48D8-9203-FCED67AC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50EC-BD9B-4EEB-879B-14E1A40A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AE1BD-E19E-4402-B942-489A66B6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D709A-5F9C-48B5-B9C3-AF2FD5E9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385C0-BC89-44EE-B1F3-49F4896A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668E3-75C6-42DF-9D41-DE2DC25C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56F4C-1FD4-4CFE-88DB-4BC9BF13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FDD4EF-7171-4C65-8E04-4697E8D3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1FD44-5520-4355-9951-292F98D9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9ED0E-BB90-42BB-8CC7-74D81380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83FF1-E442-499F-9FC0-30CDE937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A6B4A-DD71-4F17-BDC6-56F675F3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457E-49BE-4684-A173-EA13A528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B971B-573C-47AC-9DD4-F00C1028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5B630-CE7B-4002-BE75-A24A708D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CE804-1C1F-4E85-BECB-355A79E1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5660A-26D9-480D-8E19-FF29F6C4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B3EC3-45D5-4CC3-8138-F28AF21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B9901-E0B7-4FAA-8848-5AB018B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E1926-D491-41F8-98FE-0BB14AF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EB674-EFC0-414F-9ADB-98860AC3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21EFA-EAF1-405A-9AAA-BCE0129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5ED8D-30A3-4E2B-B4EC-853D6072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82FD-4A53-44DC-ADAA-A6BDAF39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49807-3586-47AD-8FAA-7EA4FD36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EAD518-CB37-493E-8D0F-FC125414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E66E3-41D9-492D-AF27-6A697BF6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F2809-8BD1-4278-AD40-85E5387E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72C3B-C26B-479C-868F-E1A11E98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6CAB0-AB4A-4CAD-81FF-104CFABA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95002-0607-463D-80FC-CCE41B50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ADECB-B381-4096-946F-6FB7648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DC35B-DAEC-47E9-89BA-FBE271A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BD094-D9B3-49CB-9230-F88E49DE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3391-46FE-4C41-BA88-BEE87F2B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AF736-47E7-4013-9F7D-6EA6D3D0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628BB-998E-4331-86CE-2FFDFEE7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04496-C673-489A-92D7-A758A518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D5E8A-D4AE-4677-B79A-0FC59C1D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61A72-5D54-4217-B054-3E90A26B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55479-3D1B-404E-B421-6B8A3005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F0963-3EFD-4A15-8C1A-B109C5DB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284F1-0F13-413B-9AE9-A307836A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18306-40EE-4933-AF77-C8EE1D69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E01051-5008-42CA-828E-7D32F6A9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79E-9FD1-4611-98F2-8EAFB77B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2B2F-DC0B-4E56-A4BA-51EDCD4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69FF8F-86F7-42E0-BB52-DAE633E5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218DF-E960-4B9F-853B-FB20063F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971AA-C443-4BB3-90B3-F56745EF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C67C5A-F3B4-4AEC-8AA9-42964172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71663-2A4F-4A44-8204-344BD602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D6DA4-9210-4C60-9B00-4E66B60C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2B033-52C9-4D1C-A73D-5D6C279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1CAA8-C595-443B-BE77-50BA05D8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EA91B-516B-4D88-AF8E-34830B2B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3144C-3B55-4925-B932-698EE670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40B3-391E-4954-960A-799EB57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4E91B-D24B-49D8-BBF4-8C44EAC7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52262-B3B5-41F3-9233-8776600C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9D0480-FC00-44FA-AE83-2D8D36D4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8FC092-8704-4B66-87C7-C5031CD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4E787-F8A5-4BA3-941A-90AD3266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6C7E9-86FD-4A14-8E95-D8EC38EA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7E50C-DFD4-4CCA-A82C-FDF4A427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6433D-C798-4C21-8EF0-1C48ABC6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9A482-168D-495C-9BD1-94819FF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1720F-9FFD-410A-BB48-3344D2B3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7751-9CE9-471F-9F80-86515FA5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6DC5A-95AA-478B-8607-BAF9F9AB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7720F-8E52-4B00-BD3B-B26FA7E6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B18E3-F5F6-4EAB-8E19-85F09B2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FE5EB-C3E7-47AE-BF61-617E6086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AB7289-55CC-4278-8232-6B6935E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9480A4-2F66-4BEB-BE4C-53F06BA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522DCA-CF8E-4F1F-BA14-8DBAD272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C09A3-9DF3-4726-891B-E35A0D80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34ADF0-3160-418B-8CEF-D563CF07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61D77-2A5E-4B15-91FD-18E58F55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CD0D-05F5-4B28-B169-4A317C41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E2C39-39A2-414B-9F59-24FE9843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6F58D9-DC98-4008-A3C2-391C51D9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90687-4AFD-45E5-AB3E-8D239A50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46ED27-9AB2-42B6-9B86-BF104C67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E645C7-EFBC-4D04-9B06-ADC900A0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6A361-AF2A-416F-804D-3999D2FD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13E55-802F-4C0B-8DCE-67C97A4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B40C9-69A9-4C00-ABA9-0323E09E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7AD4C-5483-4246-AC89-BBF42FA8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1F3BF-C40D-4784-AB16-3ED65D50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750-2703-4866-A3C4-F71C9938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BF291-BD25-45B8-B749-86F9690F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CD1190-B28C-4052-A217-7288AFA5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3310F0-C830-496E-A012-12277C41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BB5374-9A77-4198-9DE3-47090621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7C0A5-E488-47C2-B74F-29C9CBFF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0BD83C-CF8C-4E92-A3EF-00B790DA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524E2-1B9D-4654-BA2A-2C633140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575AEB-16E1-4CBE-A98C-4D5FEB7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36B35F-20D9-44D8-B1A4-10953C01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820A77-AC56-4909-9BF2-D284D4AC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DA6F-15EB-49BE-9D76-28F7F260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9938ED-29E9-443D-9027-BDAFC3D9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B93C4-55C9-451C-B070-500A27DF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B7012-B4B3-4CD6-B417-96B1710F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8B5B-96C2-4DB3-8B51-0C4B324E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BE97-0386-4E7E-BE06-B5C7A76B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ECF90-5679-45AE-8D0F-07DDCD56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B89D-9234-4515-BB1B-B5BC676B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61F-06AF-4F75-ADE1-D0FE9DCD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5BC84-7786-47B4-BD25-A44C0C82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0C05-4A69-435A-946C-D658F10B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FBF6-4ED6-42EB-932B-EDA4F9EB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8E229-7501-4F53-9141-E38FF08C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5D40-AD50-47F8-8D1D-01D8589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C35D-6325-4AC4-9685-072AD718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5D58-0DD9-479A-8006-B401880C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0E456-3EBA-4F0F-8B2F-5717F7C7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C4A29-05BF-4324-A46E-989BFCEF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D4EA-E475-439C-8A35-205D88C7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D4D-0D0E-44BA-ADB1-F3993A48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2E39F-EAFA-432B-B9FE-87DDDEB4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99FF-F255-4C98-B28C-376F5245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3BA9-2894-4A64-87B8-0AFD4FC1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9879-4C1B-40D4-A104-FE1E95F5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963AA-A5EC-4411-BB59-5276815F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7252-F872-4CD1-88BE-EB44FA56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E6EC-6C6F-4B14-A3D5-C69F7FE5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F77A9-CC3D-4C80-B5C7-086A1506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4D335-25AE-4887-8B0F-FFD6764E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D7A2D-7797-4A07-A746-29DED9C6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D63-B2F3-41D0-A0CD-ABBD5270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7C8A-CAC5-4DEF-AA6D-319BC5B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320AB-7323-4307-9738-413E60C8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DEB53-EB60-42AE-80C4-7573E256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5DF23-9224-492F-B311-99E1931A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5187-80BB-4FBF-AC3D-1843ECE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E3B8-A995-4D47-86FC-6F009DB3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F801C-37B0-45B4-9565-05607D9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E52A-919D-46BA-A58A-08D5C226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3F91-0EE9-4BCF-A689-D2DE7FC2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CBC2-5748-4761-9952-F86C4B26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B4F-D986-4545-9E67-83829CB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B39A9-C140-4CAF-9563-D7F5AD18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4CA6-A5C6-41F8-9478-C3AB9613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A3111-D89D-403C-BAE0-613B3B6E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AFF19-DCEF-4C1A-A999-A5344900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8E62-8F97-4275-83B2-5FFA76E8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DF868-F3CA-4B89-A85E-E77CDC12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71484-067B-4C25-92F6-959BED64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46CDC-0C23-44C4-B892-1C15BAD3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D8172-9FA3-4F8D-B507-5A0EB41D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47978-4277-4FE1-BCE2-F8F7732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D31-DCB2-4FA7-82EE-3E3525F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D5BF-CEFD-4E88-A319-413CA495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CA6AE-E076-4ECF-9AFB-39A0BB00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F04CF-101F-4527-B954-98F86F83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3E2C-412C-48D0-8F4C-E95A42C9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8456-FC3F-4D03-AE45-6247BA3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FAD08-370F-4366-9A81-9267B101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134FA-6312-4508-BE6B-ED726BFB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2B82A-B4D7-411D-BE17-950A3659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50CC6-EE5A-4DC6-8CDE-7131F489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CED3-09C1-47FE-A1C5-80E092CF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503-E0AA-435D-B9C6-24546E69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910BA-CB17-4B3D-9B74-8AFDD64F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FA69-8F10-436E-BCD4-F0B2A117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DD7B-BDB6-4256-A448-AEC448C0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8CB37-290F-465F-8AC2-630C9BF2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EB032-870D-478F-98CC-24CDBAE9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5DC58-AF3A-49B4-991D-8236710A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62B2-0F6D-4151-BDBC-4567F0CA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19D48-2E15-488A-81FB-ED06FB5E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626A9-DD5B-4072-8A90-66E9870D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E9F88-4735-4391-B7E9-7C70B78E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2E6-8327-46A0-8D54-AEB91754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D8BCE-9E15-4DC8-BD6B-FC92D3A0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28685-6FCD-47E0-9B56-0917713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5D985-2718-447F-9494-7C0E54C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2EC7C-70D8-47C5-814E-510108F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BDBBC-06B6-47E6-ADA7-8C90DD16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8AECC-73D7-4F3A-A1D3-620B7B4E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AA848-6069-4CEB-9F67-B14B54C3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27B14-0DC9-41E4-B5DC-29974A1A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135C5-E2C4-47C5-AB85-50D4103B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AEC0F-2F9A-4C2B-B0B8-8AB35CDF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15CF-D4D3-4A9B-A188-07858C7712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0425-D18D-4690-8082-1D91415DA0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DE03-3B8D-410D-A98B-9C61905CD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3427-D036-4F95-A56C-7F888B3A7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FCB6-3007-4644-BC6D-CAE10BDC9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91AC-A0FF-450C-9F91-3D4DC96C1A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CA27-1A8F-4454-A0FC-3FD6236D3D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E1CE-48D8-4A6B-9940-B8F7F9E79E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24AB-8F44-49EE-A568-369E006EF3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5258-B263-4939-979C-FD1D1F3590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5589-3C15-42C1-81D4-4180A0468E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F467-5008-4925-9703-92EEDCE911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0AE-DFCB-44C3-8DE5-135F9DDAA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16A4-2AAF-43E2-B0A2-23B400F5DF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D0EE-E174-4B25-A906-5ECE56959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8361-CCB0-4BAD-B732-75F8BD53E7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6A1E-94BF-47EC-A9F8-492380FAA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A969-A136-4FB7-A6DE-884F45BC1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4FEC-EE77-48C2-AF99-631EE426A3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6D98-C54C-4FAF-8F72-B85A597BA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9C7A-099B-4FAB-A056-C785896151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54F2-4681-4E47-BF7D-D856A921C4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F29-CA71-4056-84DB-66E84B7C48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F284-D3F8-420F-B9EF-9AF9862071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2112-68B2-41A1-995B-E2DDF504C4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9DDC-0864-4A58-8E2B-150B3AE05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88CD-BBD2-4F53-A6F0-1AC5C8264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A690-6231-4435-998B-3C48C619C8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61C7-1D95-4D1A-B239-52EE1E685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5A47-F56A-4AAA-BF6F-52C3118501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C2AB-4333-4935-AF6E-F75889C799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4985-CAE3-48DD-9811-CB4BC36E1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F0EE-DD5C-4599-B255-70C2C6FEDA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7B22-62AF-4F8C-9642-95FAF2B5D6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48FB-E5FF-46F9-84B8-0998526AF0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ACAD-EEBA-4EDD-8B03-B49237F2B0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97FF-C75C-4FC2-839D-01F6FBB371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9E3-220D-4C42-9258-CC544406DA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93BD-D641-4D2D-8A39-7C5C02912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D38E-84C3-4506-A022-DFD7CC6572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81280" y="3181320"/>
            <a:ext cx="37814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38120" y="789120"/>
            <a:ext cx="8267760" cy="5448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778040" y="35593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95640" y="3932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16684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716360" y="3559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133960" y="3932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105520" y="4292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667640" y="3559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8085240" y="3932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805644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55640" y="5229360"/>
            <a:ext cx="208764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826920" y="5661000"/>
            <a:ext cx="2232360" cy="50472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60440" descr=""/>
          <p:cNvPicPr/>
          <p:nvPr/>
        </p:nvPicPr>
        <p:blipFill>
          <a:blip r:embed="rId13"/>
          <a:stretch/>
        </p:blipFill>
        <p:spPr>
          <a:xfrm>
            <a:off x="1604880" y="1254240"/>
            <a:ext cx="704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128520" y="905040"/>
            <a:ext cx="8886960" cy="5619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316872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316872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539640" y="4927680"/>
            <a:ext cx="316872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539640" y="5359320"/>
            <a:ext cx="316872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539640" y="5734080"/>
            <a:ext cx="316872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539640" y="6165720"/>
            <a:ext cx="3168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4:4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